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64800" y="741240"/>
            <a:ext cx="4954680" cy="3716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27582059-19CD-46A7-A228-69AD21432E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362F2FA-8A51-4C5D-A532-D178EE0BB3DF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66E6ABC-50F9-4AFB-BE3D-CAEC0B3BC8BD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E4A47C4C-4866-49DE-8046-130AE089C2DD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E36BF94-A64D-41FE-A71D-EE83F0E398A6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C11A74C-2236-4149-867F-1E1491B987CF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8B413770-BBD7-4785-9AFF-56E70C5F865A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A3306D33-9083-44E8-A9F1-18B026501FA9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542233C9-278C-44CF-922B-95F3B535237D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C4725844-0E6C-46E0-B5CC-C89B0BDBB2FC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1DB4741A-B084-4844-899F-AB83917836AB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07EBC53-38DA-477D-BCBB-05B0F8E776F0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9CE04EA2-5C92-4B73-AAE6-654FF37346DC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73D12F48-7BF4-4EDE-8896-B0C12BE51209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5160" y="741240"/>
            <a:ext cx="4954680" cy="3716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7280" y="4707000"/>
            <a:ext cx="50482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DB78AD2B-E47C-48D9-97EA-B51945A837F4}" type="slidenum">
              <a:rPr b="0" lang="fr-FR" sz="12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7466F-4DDB-4C53-A729-D2C6000EB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5453-850E-49F9-81C0-30718446DA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AE57-89F3-4B31-B194-BB46E7147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7A60-9D37-4C97-8394-37CA9ED8EE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A9D07-9EB9-4E43-BD69-F249E90384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FAC8A-A72B-4526-ACF9-C63309C448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3714D-EA39-442A-9530-7AC6BCB463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9B734-59E6-4E4A-BEC7-F26DBEE7D9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5BF4E-7591-49A0-BF96-7E3F21C4C9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62B41-582B-4E33-A994-3C7DB44EB0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34709-EEBC-4DBC-90F1-DFFBF004FF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4964-5A65-423E-8D3A-8392CD31C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39275-88F0-402C-A00F-939984A6BA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BEF27-F8FC-49AB-85DF-0BBE36E628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EE958-B765-432C-AA26-BAD1E7E961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DA19C-1116-4246-A5EE-9251EF976D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71C164-289E-4F30-B6B1-999E4D2F6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63A69-2041-4376-BA73-44222D062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E13E-83F8-4398-A82C-F52C7DFF6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13A7B-7BA1-44E0-8F36-BC7E4A8EC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AB73-D9EA-421E-8535-BE95214CE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8DDB-61D4-4B04-8F89-4B7801ABB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10A76-2AB4-4DF7-A4F8-C922412CF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090F9-496C-400A-BF66-EA82BB190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676520"/>
            <a:ext cx="9148680" cy="4577760"/>
            <a:chOff x="0" y="1676520"/>
            <a:chExt cx="9148680" cy="4577760"/>
          </a:xfrm>
        </p:grpSpPr>
        <p:pic>
          <p:nvPicPr>
            <p:cNvPr id="1" name="Picture 3" descr="ARTHSEPA"/>
            <p:cNvPicPr/>
            <p:nvPr/>
          </p:nvPicPr>
          <p:blipFill>
            <a:blip r:embed="rId3"/>
            <a:stretch/>
          </p:blipFill>
          <p:spPr>
            <a:xfrm>
              <a:off x="6005520" y="6180480"/>
              <a:ext cx="3143160" cy="7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0" y="1676520"/>
              <a:ext cx="4495680" cy="9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43792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F42E-4E98-4788-898B-00B0F780E06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4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6000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600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600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200040" y="634356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66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459D-36B4-40A2-AED6-DDFC51135ECF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3200400" y="6343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6ABE-8427-4364-B68C-BC283A5B7ED2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3396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Advanced databases    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971440" y="342900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660033"/>
                </a:solidFill>
                <a:latin typeface="Times New Roman"/>
              </a:rPr>
              <a:t>One day training</a:t>
            </a: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Create a new database engine from scratch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A prototype database containts about 10 files of code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/source/*.c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/source/Parser/*.c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/heading/*.h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gcc – o « sqlbdd » *.c ./Parser.*.c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Touch data.dbf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6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42C6-963B-4A32-B9AD-5DAE780A4CD5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Create a new database engine from scratch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pic>
        <p:nvPicPr>
          <p:cNvPr id="158" name="Espace réservé du contenu 5" descr="list files bdd template 1.png"/>
          <p:cNvPicPr/>
          <p:nvPr/>
        </p:nvPicPr>
        <p:blipFill>
          <a:blip r:embed="rId1"/>
          <a:stretch/>
        </p:blipFill>
        <p:spPr>
          <a:xfrm>
            <a:off x="776160" y="2057400"/>
            <a:ext cx="7313760" cy="4114800"/>
          </a:xfrm>
          <a:prstGeom prst="rect">
            <a:avLst/>
          </a:prstGeom>
          <a:ln w="0">
            <a:noFill/>
          </a:ln>
        </p:spPr>
      </p:pic>
      <p:sp>
        <p:nvSpPr>
          <p:cNvPr id="159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0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3157-C052-4E7C-8B23-E20824F4818A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-387360"/>
            <a:ext cx="8637480" cy="13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b60009"/>
                </a:solidFill>
                <a:latin typeface="Arial"/>
              </a:rPr>
              <a:t>Remember quickly the Oracle database &amp; instance structure 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62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3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8A21-8582-48EB-BF3F-3C0548566ABA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4" name="Espace réservé du contenu 6" descr="Oracle global picture 1.jpg"/>
          <p:cNvPicPr/>
          <p:nvPr/>
        </p:nvPicPr>
        <p:blipFill>
          <a:blip r:embed="rId1"/>
          <a:stretch/>
        </p:blipFill>
        <p:spPr>
          <a:xfrm>
            <a:off x="1873080" y="1941480"/>
            <a:ext cx="511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Rember quickly Oracle internal database structure 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8208720" cy="4114800"/>
          </a:xfrm>
          <a:prstGeom prst="rect">
            <a:avLst/>
          </a:prstGeom>
          <a:ln w="0">
            <a:noFill/>
          </a:ln>
        </p:spPr>
      </p:pic>
      <p:sp>
        <p:nvSpPr>
          <p:cNvPr id="167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8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C01A-B89A-4FB3-8B53-512E103A4F84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69" name="Picture 34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579132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-563760"/>
            <a:ext cx="8637480" cy="132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60009"/>
                </a:solidFill>
                <a:latin typeface="Arial"/>
              </a:rPr>
              <a:t>The key units of any database</a:t>
            </a:r>
            <a:r>
              <a:rPr b="0" lang="fr-FR" sz="4000" spc="-1" strike="noStrike">
                <a:solidFill>
                  <a:srgbClr val="b60009"/>
                </a:solidFill>
                <a:latin typeface="Arial"/>
              </a:rPr>
              <a:t> internal structure are …</a:t>
            </a:r>
            <a:endParaRPr b="0" lang="en-US" sz="40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Segments are logical units as well (tables, indexes…)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Segments are composed of several extents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Extents are physical units – the smallest allocation unit on the disk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Extents are composed of blocks, which are the smallest exchange unit between the memory and the disk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2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3D98-D074-4F15-9BCA-1303E9D6B4B5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388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3 projects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ATM (automated teller machine) / GAB (Guichet automatique bancaire)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Bioinformatics, sequences alignement/ Bioinformatique, alignement de séquence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Create a new database engine from scratch/ Création d’un nouveau moteur de base de données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9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0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2CB7-EFC1-4AAE-899D-BFB1667A2F51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71388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ATM Machine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16080" y="19432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3 modules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3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F972-0AC1-4E6B-8DCE-4C5230BBEA88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Rectangle à coins arrondis 5"/>
          <p:cNvSpPr/>
          <p:nvPr/>
        </p:nvSpPr>
        <p:spPr>
          <a:xfrm>
            <a:off x="838080" y="268596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ATM/GAB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6" name="Rectangle à coins arrondis 6"/>
          <p:cNvSpPr/>
          <p:nvPr/>
        </p:nvSpPr>
        <p:spPr>
          <a:xfrm>
            <a:off x="3505320" y="259092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Rectangle à coins arrondis 7"/>
          <p:cNvSpPr/>
          <p:nvPr/>
        </p:nvSpPr>
        <p:spPr>
          <a:xfrm>
            <a:off x="6400800" y="266688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8" name="Organigramme : Disque magnétique 8"/>
          <p:cNvSpPr/>
          <p:nvPr/>
        </p:nvSpPr>
        <p:spPr>
          <a:xfrm>
            <a:off x="6629400" y="4267080"/>
            <a:ext cx="1523880" cy="1676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BD Oracle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T_user,t_user_ext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cxnSp>
        <p:nvCxnSpPr>
          <p:cNvPr id="109" name="Connecteur droit avec flèche 8"/>
          <p:cNvCxnSpPr>
            <a:endCxn id="106" idx="1"/>
          </p:cNvCxnSpPr>
          <p:nvPr/>
        </p:nvCxnSpPr>
        <p:spPr>
          <a:xfrm>
            <a:off x="2590920" y="3047760"/>
            <a:ext cx="915120" cy="108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  <p:cxnSp>
        <p:nvCxnSpPr>
          <p:cNvPr id="110" name="Connecteur droit avec flèche 15"/>
          <p:cNvCxnSpPr/>
          <p:nvPr/>
        </p:nvCxnSpPr>
        <p:spPr>
          <a:xfrm>
            <a:off x="4381560" y="3504960"/>
            <a:ext cx="2248560" cy="144828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  <p:cxnSp>
        <p:nvCxnSpPr>
          <p:cNvPr id="111" name="Connecteur droit avec flèche 18"/>
          <p:cNvCxnSpPr>
            <a:stCxn id="107" idx="2"/>
          </p:cNvCxnSpPr>
          <p:nvPr/>
        </p:nvCxnSpPr>
        <p:spPr>
          <a:xfrm>
            <a:off x="7276680" y="3580920"/>
            <a:ext cx="1080" cy="83916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  <p:cxnSp>
        <p:nvCxnSpPr>
          <p:cNvPr id="112" name="Connecteur droit avec flèche 17"/>
          <p:cNvCxnSpPr>
            <a:endCxn id="107" idx="1"/>
          </p:cNvCxnSpPr>
          <p:nvPr/>
        </p:nvCxnSpPr>
        <p:spPr>
          <a:xfrm>
            <a:off x="5257440" y="3123720"/>
            <a:ext cx="1143720" cy="108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  <p:cxnSp>
        <p:nvCxnSpPr>
          <p:cNvPr id="113" name="Connecteur droit avec flèche 25"/>
          <p:cNvCxnSpPr/>
          <p:nvPr/>
        </p:nvCxnSpPr>
        <p:spPr>
          <a:xfrm flipH="1">
            <a:off x="2590560" y="3428640"/>
            <a:ext cx="915120" cy="108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  <p:cxnSp>
        <p:nvCxnSpPr>
          <p:cNvPr id="114" name="Connecteur droit avec flèche 21"/>
          <p:cNvCxnSpPr/>
          <p:nvPr/>
        </p:nvCxnSpPr>
        <p:spPr>
          <a:xfrm flipH="1" flipV="1">
            <a:off x="2590200" y="3590280"/>
            <a:ext cx="3886920" cy="1980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  <p:sp>
        <p:nvSpPr>
          <p:cNvPr id="115" name="Rectangle à coins arrondis 23"/>
          <p:cNvSpPr/>
          <p:nvPr/>
        </p:nvSpPr>
        <p:spPr>
          <a:xfrm>
            <a:off x="3505320" y="457200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Routing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cxnSp>
        <p:nvCxnSpPr>
          <p:cNvPr id="116" name="Connecteur droit avec flèche 26"/>
          <p:cNvCxnSpPr/>
          <p:nvPr/>
        </p:nvCxnSpPr>
        <p:spPr>
          <a:xfrm>
            <a:off x="4266720" y="3504960"/>
            <a:ext cx="1080" cy="106740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  <p:cxnSp>
        <p:nvCxnSpPr>
          <p:cNvPr id="117" name="Connecteur droit avec flèche 32"/>
          <p:cNvCxnSpPr/>
          <p:nvPr/>
        </p:nvCxnSpPr>
        <p:spPr>
          <a:xfrm>
            <a:off x="5257800" y="5181120"/>
            <a:ext cx="1372320" cy="38196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  <p:cxnSp>
        <p:nvCxnSpPr>
          <p:cNvPr id="118" name="Connecteur droit avec flèche 34"/>
          <p:cNvCxnSpPr>
            <a:stCxn id="115" idx="1"/>
          </p:cNvCxnSpPr>
          <p:nvPr/>
        </p:nvCxnSpPr>
        <p:spPr>
          <a:xfrm flipH="1" flipV="1">
            <a:off x="2437920" y="3657240"/>
            <a:ext cx="1067760" cy="133416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388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ATM Machine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ATM/GAB module: GUI interface with Java Swing/AWT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Security module: MD5, SHA1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Central , Routing module: JDBC 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Oracle database: with or without PL/SQL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1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C804-4CFD-44D7-B9C5-43A2E7A0CD85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Bioinformatics sequence alignement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1 GUI with several databases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D452-4E7D-4A68-B200-0F8216877D1E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7" name="Rectangle à coins arrondis 5"/>
          <p:cNvSpPr/>
          <p:nvPr/>
        </p:nvSpPr>
        <p:spPr>
          <a:xfrm>
            <a:off x="7010280" y="1447920"/>
            <a:ext cx="1905120" cy="99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User infterface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Organigramme : Disque magnétique 6"/>
          <p:cNvSpPr/>
          <p:nvPr/>
        </p:nvSpPr>
        <p:spPr>
          <a:xfrm>
            <a:off x="1752480" y="4743360"/>
            <a:ext cx="1524240" cy="11239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MongoDB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Reducer1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9" name="Organigramme : Disque magnétique 7"/>
          <p:cNvSpPr/>
          <p:nvPr/>
        </p:nvSpPr>
        <p:spPr>
          <a:xfrm>
            <a:off x="5715000" y="4753080"/>
            <a:ext cx="1447920" cy="111420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Mongodb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Reducer2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524480" y="2895480"/>
            <a:ext cx="1904760" cy="533520"/>
          </a:xfrm>
          <a:prstGeom prst="rect">
            <a:avLst/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Mongoclient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cxnSp>
        <p:nvCxnSpPr>
          <p:cNvPr id="131" name="Connecteur droit avec flèche 10"/>
          <p:cNvCxnSpPr/>
          <p:nvPr/>
        </p:nvCxnSpPr>
        <p:spPr>
          <a:xfrm flipH="1">
            <a:off x="3047760" y="4267080"/>
            <a:ext cx="915120" cy="48672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  <p:cxnSp>
        <p:nvCxnSpPr>
          <p:cNvPr id="132" name="Connecteur droit avec flèche 12"/>
          <p:cNvCxnSpPr/>
          <p:nvPr/>
        </p:nvCxnSpPr>
        <p:spPr>
          <a:xfrm>
            <a:off x="5181480" y="4267080"/>
            <a:ext cx="610560" cy="61056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  <p:sp>
        <p:nvSpPr>
          <p:cNvPr id="133" name="Organigramme : Disque magnétique 6"/>
          <p:cNvSpPr/>
          <p:nvPr/>
        </p:nvSpPr>
        <p:spPr>
          <a:xfrm>
            <a:off x="3886200" y="3753000"/>
            <a:ext cx="1447920" cy="119988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MongoDB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0033"/>
                </a:solidFill>
                <a:latin typeface="Times New Roman"/>
              </a:rPr>
              <a:t>Maper 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cxnSp>
        <p:nvCxnSpPr>
          <p:cNvPr id="134" name="Connecteur droit avec flèche 2"/>
          <p:cNvCxnSpPr/>
          <p:nvPr/>
        </p:nvCxnSpPr>
        <p:spPr>
          <a:xfrm flipH="1">
            <a:off x="4876560" y="3429000"/>
            <a:ext cx="457920" cy="32472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  <p:cxnSp>
        <p:nvCxnSpPr>
          <p:cNvPr id="135" name="Connecteur droit avec flèche 14"/>
          <p:cNvCxnSpPr/>
          <p:nvPr/>
        </p:nvCxnSpPr>
        <p:spPr>
          <a:xfrm flipH="1">
            <a:off x="6019200" y="2209320"/>
            <a:ext cx="991080" cy="686520"/>
          </a:xfrm>
          <a:prstGeom prst="straightConnector1">
            <a:avLst/>
          </a:prstGeom>
          <a:ln w="9360">
            <a:solidFill>
              <a:srgbClr val="66003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13880"/>
            <a:ext cx="863748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b60009"/>
                </a:solidFill>
                <a:latin typeface="Arial"/>
              </a:rPr>
              <a:t>Bioinformatics,simple alignement (II)</a:t>
            </a:r>
            <a:endParaRPr b="0" lang="en-US" sz="3600" spc="-1" strike="noStrike">
              <a:solidFill>
                <a:srgbClr val="b60009"/>
              </a:solidFill>
              <a:latin typeface="Arial"/>
            </a:endParaRPr>
          </a:p>
        </p:txBody>
      </p:sp>
      <p:pic>
        <p:nvPicPr>
          <p:cNvPr id="137" name="Espace réservé du contenu 5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504960" cy="3504960"/>
          </a:xfrm>
          <a:prstGeom prst="rect">
            <a:avLst/>
          </a:prstGeom>
          <a:ln w="0">
            <a:noFill/>
          </a:ln>
        </p:spPr>
      </p:pic>
      <p:sp>
        <p:nvSpPr>
          <p:cNvPr id="138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9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E52A-DF6A-48FA-AF5E-8156278C4494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Bioinformatics,simple alignement (III)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Sequences alignement score</a:t>
            </a: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2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BA0F-5781-4EB0-ACCB-5E457DA6825F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14720" y="2957400"/>
            <a:ext cx="471456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Bioinformatics, multiple alignement( III)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46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7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A701-04A3-48B4-93B6-9B56F6C3FC1D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48" name="Espace réservé du contenu 7" descr=""/>
          <p:cNvPicPr/>
          <p:nvPr/>
        </p:nvPicPr>
        <p:blipFill>
          <a:blip r:embed="rId1"/>
          <a:stretch/>
        </p:blipFill>
        <p:spPr>
          <a:xfrm>
            <a:off x="1371600" y="2743200"/>
            <a:ext cx="56800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52560"/>
            <a:ext cx="863748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b60009"/>
                </a:solidFill>
                <a:latin typeface="Arial"/>
              </a:rPr>
              <a:t>Bioinformatics, Logo</a:t>
            </a:r>
            <a:endParaRPr b="0" lang="en-US" sz="4400" spc="-1" strike="noStrike">
              <a:solidFill>
                <a:srgbClr val="b60009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660033"/>
                </a:solidFill>
                <a:latin typeface="Times New Roman"/>
              </a:rPr>
              <a:t>Weblogo.berkley.edu/logo.cgi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1" name="Espace réservé du pied de page 3"/>
          <p:cNvSpPr/>
          <p:nvPr/>
        </p:nvSpPr>
        <p:spPr>
          <a:xfrm>
            <a:off x="2438280" y="6343560"/>
            <a:ext cx="65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Dragutin Jastrebic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660033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Espace réservé du numéro de diapositive 4"/>
          <p:cNvSpPr/>
          <p:nvPr/>
        </p:nvSpPr>
        <p:spPr>
          <a:xfrm>
            <a:off x="14616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8D92-D704-48EC-92DF-B9829AFDB22A}" type="slidenum">
              <a:rPr b="0" lang="fr-FR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8:58:46Z</dcterms:created>
  <dc:creator>ppt</dc:creator>
  <dc:description/>
  <dc:language>en-US</dc:language>
  <cp:lastModifiedBy>Ana</cp:lastModifiedBy>
  <dcterms:modified xsi:type="dcterms:W3CDTF">2016-11-21T22:12:53Z</dcterms:modified>
  <cp:revision>812</cp:revision>
  <dc:subject/>
  <dc:title>ASM</dc:title>
</cp:coreProperties>
</file>